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366A-3D3B-40D6-9D33-0B674543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6479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C2CD-56CB-4B71-B728-4135E44C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6479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6479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F3DF-752D-4A1D-A0AD-55B723DE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6479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6479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6479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C42A-FB95-422A-B6EA-D15D540A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1266-959A-4ABA-A88E-110551EF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61F2-7E4D-46B0-A0A1-4ECA09E5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446A-A9B3-4A37-BC07-23923CA8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50E6-AAA0-4932-AA24-418DD5A9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950D-66E1-4F3E-AA98-D24E7CF8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34F3-36D0-456C-A789-A9B184FE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6479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E6CF-9248-4C6F-9ADD-06055565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059E-FBA4-4AB3-BFED-E6611716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6479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B87E-70D0-4B76-921E-53C99A8E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6479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3F9B-A278-4E63-98A1-4E043EA4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6479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DC37-0728-4007-9A68-2BED6857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6479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6479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5589-728F-4F9A-8F68-200C7FB5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6479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6479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6479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4DCB-8471-406F-BBBC-D265AF1DC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2025-1FE8-44EA-AD32-FFE6973C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0731-1E4B-40DB-8AA8-5674C886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DD2D-0C91-4B18-9622-00DD6E41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4319-FC01-4498-986C-ACFA5B96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6479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5868-74D2-4A3B-8E5B-7A322896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6479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E85B-8C29-4BDD-B69E-5EF21F93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6479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C067-B614-4F1A-B51E-92EF9222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1" name="Rectangle 3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239760" y="222120"/>
              <a:ext cx="8682120" cy="64389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6699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079B-0146-44F7-A19E-C74293839B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108000" y="108000"/>
            <a:ext cx="8928000" cy="6642000"/>
            <a:chOff x="108000" y="108000"/>
            <a:chExt cx="8928000" cy="6642000"/>
          </a:xfrm>
        </p:grpSpPr>
        <p:sp>
          <p:nvSpPr>
            <p:cNvPr id="47" name="Rectangle 3"/>
            <p:cNvSpPr/>
            <p:nvPr/>
          </p:nvSpPr>
          <p:spPr>
            <a:xfrm>
              <a:off x="108000" y="108000"/>
              <a:ext cx="8928000" cy="66420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4"/>
            <p:cNvSpPr/>
            <p:nvPr/>
          </p:nvSpPr>
          <p:spPr>
            <a:xfrm>
              <a:off x="239760" y="222120"/>
              <a:ext cx="8682120" cy="64389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50000">
                  <a:srgbClr val="6699ff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03120" y="298440"/>
              <a:ext cx="8535960" cy="626112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000099"/>
                </a:gs>
                <a:gs pos="100000">
                  <a:srgbClr val="6699ff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6"/>
            <p:cNvSpPr/>
            <p:nvPr/>
          </p:nvSpPr>
          <p:spPr>
            <a:xfrm>
              <a:off x="431640" y="431640"/>
              <a:ext cx="8280720" cy="5994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5400000"/>
            </a:gradFill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4C5D-BED3-47AE-933E-B78A317950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hapter 17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WEST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XPLOITING AN EMPI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ivine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Breen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Fredrickson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Williams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Gross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Br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61722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inal Battles on the Plai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reservation policy fa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ng warriors refuse restra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te settlers encroach on Indian l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al series of wars suppress Ind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76, Little Big Horn:  Sioux defeat Cu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battles result in Indian defeat, massac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90, Wounded Knee: Massacre to suppress "Ghost Dances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End of Tribal Lif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87: Dawes Severalty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troys communal ownership of Indian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s small farms (160 acres) to each head of a fam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ans who leave tribes become U.S. citiz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0033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to live on land for 25 straight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-extermination of buffalo deals devastating blow to Plains Ind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ttlement of the We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precedented settlement 1870–19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move west in periods of prospe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sing population drives demand for Western g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en and Women on the Overland Trai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ifornia Gold Rush begins Great Mi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lers start from St. Louis, Missouri, in April to get through Rockies before snow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ific trek takes at least 6 month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d for the Taking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ederal Incentiv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60–1900: Federal land gra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 million acres granted under Homestead 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million acres sold to private individuals, corpo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8 million acres granted to railroad compan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ress offers incentives to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ber Culture Act of 187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ert Land Act of 18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ber and Stone Act of 187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d for the Taking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peculators and Railroa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18772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land acquired by wealthy inves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ulators send agents to stake out best land for high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ver bott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rigable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of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ilroads settle grants with immigr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and for the Taking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ater and Develop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scarcity limits Western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ch of the West receives less than 20 inches of rainfall annu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speculate in water as in go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02: Newlands Act sets aside federal money for irrigation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rritorial Governmen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ern territorial officials appoi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itorial patronage systems persi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Westerners make livings as Congress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ritorial experience produces unique Western political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Spanish-Speaking Southwe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nish-speakers of Southwest  contribute to culture, instit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r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ck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a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ural resourc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nish-Mexican Californians lose lands after 186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Bonanza We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 to “get rich quick” produ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ven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m-and-bust economic cy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ted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nt cities" like San Francis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itutions based on bonanza ment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yond the Frontie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40: Settlement to Missouri timber count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tern Plains have rich soil, good rain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Plains, Rockies semi-ar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pre-Civil War settlers head directly for Pacific Co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Mining Bonanz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ng first attraction to the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ng frontier moves from west to ea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 prospectors remove surface go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 corporations move in with the heavy, expensive mining equip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74–1876: Black Hills rush overruns Sioux hunting grou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ining Regions of the We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62" name="Picture 4" descr="DIVI7233355"/>
          <p:cNvPicPr/>
          <p:nvPr/>
        </p:nvPicPr>
        <p:blipFill>
          <a:blip r:embed="rId1"/>
          <a:stretch/>
        </p:blipFill>
        <p:spPr>
          <a:xfrm>
            <a:off x="2819520" y="1752480"/>
            <a:ext cx="3425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ining Bonanza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mp Lif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ps sprout with each first str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mps governed by simple democrac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 outnumber women two to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men, some women work clai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women earn wages as cooks, housekeepers, and seamstr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ining Bonanza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thnic Hostil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–50% of camp citizens were foreign-bo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nch, Latin Americans, Chinese h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50: California Foreign Miner's Tax drives foreigners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82: Federal Chinese Exclusion Act suspends Chinese immigration for 1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ining Bonanza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ffects of the Mining Boo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ibuted millions to ec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ed finance Civil War, industr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ve value of silver and gold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ly statehood for Nevada, Idaho, Monta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aded Indian reserv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rred, pollute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host tow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old from the Roots Up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Cattle Bonanz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18772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ar West ideal for cattle graz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tle drives take herds to rail he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s take herds to Chicago for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its enormous for large ranc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wboys work long hours for little p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wboys self-gove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attle Trail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0" name="Picture 4" descr="DIVI7233357"/>
          <p:cNvPicPr/>
          <p:nvPr/>
        </p:nvPicPr>
        <p:blipFill>
          <a:blip r:embed="rId1"/>
          <a:stretch/>
        </p:blipFill>
        <p:spPr>
          <a:xfrm>
            <a:off x="2362320" y="1752480"/>
            <a:ext cx="4275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old from the Roots Up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Cattle Bonanz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1880 wheat farmers begin fencing r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chanization modernizes ran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86: Harsh winter kills thousands of catt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chers reduce herds, switch to shee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odbusters on the Plains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Farming Bonanz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257560"/>
            <a:ext cx="7772400" cy="482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70–1890 farm population triples on pl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American “Exoduster” farmers migrate from the South to escape rac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, building materials sca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d houses common first dwe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ew Farming Method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bed wire allows fencing without w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y farming: Deeper tilling, use of mul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strains of wheat resistant to fr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85–1890: Drought ruins bonanza fa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-scale, diversified farming adop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hysiographic Map of the U.S.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0" name="Picture 4" descr="DIVI7233344"/>
          <p:cNvPicPr/>
          <p:nvPr/>
        </p:nvPicPr>
        <p:blipFill>
          <a:blip r:embed="rId1"/>
          <a:stretch/>
        </p:blipFill>
        <p:spPr>
          <a:xfrm>
            <a:off x="990720" y="1752480"/>
            <a:ext cx="716256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content on the Far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rmers’ griev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lining crop pr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ing rail 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vy mortg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ange becomes a political lobb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-Mississippi farmers become more commercial, scientific, produ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gricultural Land Use in the 1880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8" name="Picture 4" descr="DIVI7233367"/>
          <p:cNvPicPr/>
          <p:nvPr/>
        </p:nvPicPr>
        <p:blipFill>
          <a:blip r:embed="rId1"/>
          <a:stretch/>
        </p:blipFill>
        <p:spPr>
          <a:xfrm>
            <a:off x="1676520" y="1981080"/>
            <a:ext cx="571500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Final Fl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89: Oklahoma opened to white sett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ing views of Far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ntier thesis” treated West as cradle of individualism, inno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Western History sees West as arena of conflicting interests, erosion of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Meaning of the Wes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ians differ in their interpretation of the American frontier experie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derick Jackson Tur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Western historian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est was the first American empire and played a profound role in shaping American customs and character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rushing the Native America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67: 250,000 Indians in western 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laced Eastern Ind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ve Plains Ind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1880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Indians on reser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ifornia Indians decimated by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1890s Indian cultures crum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fe of the Plains Indians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olitical Organiz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ins Indians nomadic, hunt buffa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ed horse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bes develop warrior cla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s limited to skirmishes, "counting coups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bal bands governed by chief and counci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ose organization confounds federal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Life of the Plains Indians:  Social Organiz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xual division of lab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 hunt, trade, supervise ceremonial activities, clear ground for pla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men responsible for child rearing, art, camp work, gardening, food prepa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l gender status comm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ship often matrilin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men often manage family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s Long as Waters Run”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earching for an Indian Polic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-Mississippi West neglec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an Intercourse Act of 1834 excludes any white from Indian country without a lic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 regarded as Indian pre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ative Americans in the West: Major Battles and Reserva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6" name="Picture 4" descr="DIVI7233346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00"/>
            </a:gs>
            <a:gs pos="100000">
              <a:srgbClr val="0000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s Long as Waters Run”: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Searching for an Indian Polic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ter 1850 more whites in Indian 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Chivington and the Sand Creek massac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oux War of 1865–1867 and Fetterman Massac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bate over Indian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itarians want to “civilize” Indi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s want firm control and swift repri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manitarians win with "small reservation"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3:25:30Z</dcterms:created>
  <dc:creator>CMU</dc:creator>
  <dc:description/>
  <cp:keywords/>
  <dc:language>en-US</dc:language>
  <cp:lastModifiedBy>Matthew Myers</cp:lastModifiedBy>
  <cp:lastPrinted>2012-05-30T00:40:02Z</cp:lastPrinted>
  <dcterms:modified xsi:type="dcterms:W3CDTF">2010-12-08T15:43:18Z</dcterms:modified>
  <cp:revision>12</cp:revision>
  <dc:subject/>
  <dc:title>THE WEST:  EXPLOITING AN EMPIRE</dc:title>
</cp:coreProperties>
</file>